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45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3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DCB-C06D-4F39-AED7-162ABF3D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EBC-E2D5-48D8-8F7E-273BBC9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5A0-1525-4651-9E05-408B149C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BD7-4BBF-41B6-A74E-DC30BBD2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349A-198F-4065-9A24-1F3A8DA2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F2F3-CDAD-42DB-955B-A665EE1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252C-F30C-46D5-9790-9D15381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9C4A-5E2C-41BD-9F55-860E97C4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369-1CE4-4653-BF8B-CC109800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2DF-3FA3-403B-B825-467D7F76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0D74-5C8F-47F8-B2BF-E482BD2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833-084B-4653-B70C-2CDDC867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C661-D43E-4718-B322-7C30F5F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06F6-14E4-4992-BD76-89FF18E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748-CC20-4321-89E5-928B889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12E9-B0FB-4FF5-AD71-8EC2BF64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D34-0ADF-4734-8818-B29DD4C4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D8E3-D5A9-4354-B448-BE52625F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3436-A3D5-4CCA-86ED-341B5251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6B91-CCB9-4E94-8268-BDD2C09C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1767-B34E-4D8F-8011-5B48565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1F1B-1F3C-468B-84A5-5EE22254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80F-2BB8-4229-87B6-002B3B9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E07D-653D-4321-9AD4-845BA16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0707-7722-4E1E-B528-D110CC1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95CE-CA45-428D-A5A4-C9073AF1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06B7-3467-482F-B32C-F227B27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29B8-1D8F-4646-8AB3-E657FD9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AE12-7676-44B3-804B-E5F55144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31F2-9B49-41CD-A270-4F2BCB98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AC2F-1052-4E06-B956-ACCD5C8E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617B-45A1-4FDA-A062-A503EA8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3279-B683-4602-8BE8-043B5B1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12B-5DC5-41E0-AB25-B0EAFC64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D39C-9BFA-4C08-9E42-33EA9F03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8E53-BB26-4942-85A0-4D1C572B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80B1-31ED-4A65-8C0F-10F7FD78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2451-C010-4593-B006-634E9C1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463D-D908-47DD-9C64-A1BE23D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7057-9ACA-48A3-9027-38353A2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6B02-C511-446F-B8DE-8CA17C3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6311-1A54-4D7B-9868-6742D8C9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78D9-BC18-41AF-A4ED-37DE2907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AAC6-83E5-47EC-8B61-B84341C7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686-DD10-430D-BB70-3FCA6CC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69C3-09FA-461C-8BDF-5A3E2A9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0FD7-3421-4032-911C-1B24113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16A4-FED8-4B04-8053-952700E8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615E-9529-4365-B9C8-AB1C416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36DB-782C-41A3-AEC4-6E5673D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90DE-AB90-4953-A3C4-57FC56B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562E-4816-457B-AA1C-3B94C51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C8AA-80D8-4809-9D51-6E4082E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EFFE-DDDF-4B05-8F21-6B6F39C6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DDDE-22CA-43B6-B7FE-40B59CA6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E3F-66C9-4697-9268-D0367AD5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15CB-7C87-4535-98A2-5ABCF92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413-6065-4D1B-B828-3E42224E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1ED-7F5E-4ADB-8805-3357234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4F5-1570-4E73-AC08-62CFF4F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2F43-FE81-4C08-A41E-439F6C16A5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DDD-5AE1-4666-BB04-462E24969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9DF-74BD-464A-BEA3-A2CD04BC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8D9D-A8E1-4C73-A8B4-4E4AFFDBF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859-1FD3-4D20-B088-F3FEA223B3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gio.net/kazakhstan/american-fla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www.bbc.co.uk/history/worldwars/coldwar/images/soviet_old_soviet_union_flag.jpg&amp;imgrefurl=http://www.bbc.co.uk/history/worldwars/coldwar/soviet_end_01.shtml&amp;h=130&amp;w=196&amp;sz=10&amp;hl=en&amp;start=15&amp;sig2=j0FltIbJ5Bha9xlOFQxTfQ&amp;um=1&amp;tbnid=W9IGYayxR-637M:&amp;tbnh=69&amp;tbnw=104&amp;ei=etKcR8_aGI66eo_V_M0G&amp;prev=/images%3Fq%3DUSSr%2BFlag%26svnum%3D10%26um%3D1%26hl%3Den%26rlz%3D1G1GGLQ_ENUS240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en.wikipedia.org/wiki/Image:Berlin_Blockade_Milk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lag_of_NATO.svg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en.wikipedia.org/wiki/Image:Flag_of_NATO.svg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media.urbandictionary.com/image/large/communism-5705.jpg&amp;imgrefurl=http://weissweiss.stumbleupon.com/archive/20/&amp;h=350&amp;w=286&amp;sz=9&amp;hl=en&amp;start=3&amp;sig2=ThGaMytf5MLug0limgy0Wg&amp;um=1&amp;tbnid=L7aWNh3WaEbNEM:&amp;tbnh=120&amp;tbnw=98&amp;ei=0QKdR-ylMY66epPV_M0G&amp;prev=/images%3Fq%3DCommunism%26svnum%3D10%26um%3D1%26hl%3Den%26rlz%3D1G1GGLQ_ENUS240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itake.se/superpowercoldwarbutton.png&amp;imgrefurl=http://www.itake.se/&amp;h=300&amp;w=300&amp;sz=344&amp;hl=en&amp;start=7&amp;sig2=KVgXFoRqQ9Kmt43zWqznXw&amp;um=1&amp;tbnid=lQeWAn_I3Cyh4M:&amp;tbnh=116&amp;tbnw=116&amp;ei=6QOdR4HnFqD6efy_jM4G&amp;prev=/images%3Fq%3DSuperPower%2BUS%2BUSSR%26svnum%3D10%26um%3D1%26hl%3Den%26rlz%3D1G1GGLQ_ENUS240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Flag_of_the_Chinese_Communist_Party.svg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upload.wikimedia.org/wikipedia/commons/6/66/Naval_Jack_of_the_Republic_of_China.svg" TargetMode="External"/><Relationship Id="rId4" Type="http://schemas.openxmlformats.org/officeDocument/2006/relationships/image" Target="../media/image33.png"/><Relationship Id="rId5" Type="http://schemas.openxmlformats.org/officeDocument/2006/relationships/hyperlink" Target="http://en.wikipedia.org/wiki/Image:Mao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n.wikipedia.org/wiki/Image:Chiang_Kai-shek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ulnoll.com/Locations/visiting-Taiwan-flag.gif&amp;imgrefurl=http://www.paulnoll.com/Locations/visiting-Taiwan.html&amp;h=220&amp;w=330&amp;sz=2&amp;tbnid=PsG7B1k3jH4J:&amp;tbnh=76&amp;tbnw=114&amp;start=1&amp;prev=/images%3Fq%3DTaiwan%2BFlag%26hl%3Den%26lr%3D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winstonchurchillsinewsofpeace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wpclipart.com/signs_symbol/safety_signs/warning_sign.png&amp;imgrefurl=http://www.wpclipart.com/signs_symbol/safety_signs/&amp;h=753&amp;w=1171&amp;sz=26&amp;hl=en&amp;start=11&amp;sig2=zmZe9Lp8KiT03S1VTiL_iQ&amp;um=1&amp;tbnid=ZOmAicQNlOS1iM:&amp;tbnh=96&amp;tbnw=150&amp;ei=kcycR632OKPgeNOR8c0G&amp;prev=/images%3Fq%3Dwarning%2Bsigns%26svnum%3D10%26um%3D1%26hl%3Den%26rlz%3D1G1GGLQ_ENUS240%26sa%3DX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81D-2A5F-49A2-BC50-905651D53B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685800" y="4952880"/>
            <a:ext cx="7772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igins to 1960</a:t>
            </a:r>
            <a:endParaRPr b="1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1066680" y="228600"/>
            <a:ext cx="677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old War: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2" name="Picture 8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90920"/>
            <a:ext cx="2743200" cy="173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20050705205500_che-guevara-soviet-union-flag-posterflag-4001883%5B1%5D"/>
          <p:cNvPicPr/>
          <p:nvPr/>
        </p:nvPicPr>
        <p:blipFill>
          <a:blip r:embed="rId3"/>
          <a:stretch/>
        </p:blipFill>
        <p:spPr>
          <a:xfrm>
            <a:off x="6248520" y="2514600"/>
            <a:ext cx="2666880" cy="1847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nagasaki_bomb"/>
          <p:cNvPicPr/>
          <p:nvPr/>
        </p:nvPicPr>
        <p:blipFill>
          <a:blip r:embed="rId4"/>
          <a:stretch/>
        </p:blipFill>
        <p:spPr>
          <a:xfrm>
            <a:off x="3505320" y="1752480"/>
            <a:ext cx="2284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222-2D8A-45A7-87DD-8FF9E7CD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CF3-FED6-41E2-B2A1-293499701A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E42-2715-4B25-9B72-93A3780EB1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Problem with Berlin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rlin was in the Soviet S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lin was not happy with a “small piece” of democracy in Ea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did he do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lift 2"/>
          <p:cNvPicPr/>
          <p:nvPr/>
        </p:nvPicPr>
        <p:blipFill>
          <a:blip r:embed="rId2"/>
          <a:stretch/>
        </p:blipFill>
        <p:spPr>
          <a:xfrm>
            <a:off x="4876920" y="1447920"/>
            <a:ext cx="3933720" cy="464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CC0-67FF-4BCF-82F8-3C583F66B1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Blockade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9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1948, Stalin attempts to starve West Berliners into sub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rail and street access was block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cossack_road_block_dubasari"/>
          <p:cNvPicPr/>
          <p:nvPr/>
        </p:nvPicPr>
        <p:blipFill>
          <a:blip r:embed="rId1"/>
          <a:stretch/>
        </p:blipFill>
        <p:spPr>
          <a:xfrm>
            <a:off x="2057400" y="3352680"/>
            <a:ext cx="5181480" cy="2963880"/>
          </a:xfrm>
          <a:prstGeom prst="rect">
            <a:avLst/>
          </a:prstGeom>
          <a:ln w="63360">
            <a:solidFill>
              <a:srgbClr val="330066"/>
            </a:solidFill>
            <a:miter/>
          </a:ln>
        </p:spPr>
      </p:pic>
      <p:pic>
        <p:nvPicPr>
          <p:cNvPr id="389" name="Picture 10" descr="soviet_old_soviet_union_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708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soviet_old_soviet_union_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F4C2-68CF-45DA-A4A5-16876DF5A2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Berlin Airlif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erican and British planes flew food and supplies into Berlin for 327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alin lifted the Blockade by May 194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lift 1"/>
          <p:cNvPicPr/>
          <p:nvPr/>
        </p:nvPicPr>
        <p:blipFill>
          <a:blip r:embed="rId1"/>
          <a:stretch/>
        </p:blipFill>
        <p:spPr>
          <a:xfrm>
            <a:off x="4952880" y="1752480"/>
            <a:ext cx="383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1D9-720C-4595-AA6D-2D6B6EDACD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Berlin-Airliftchildren"/>
          <p:cNvPicPr/>
          <p:nvPr/>
        </p:nvPicPr>
        <p:blipFill>
          <a:blip r:embed="rId1"/>
          <a:stretch/>
        </p:blipFill>
        <p:spPr>
          <a:xfrm>
            <a:off x="0" y="0"/>
            <a:ext cx="4191120" cy="361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7" name="Picture 3" descr="C-47s unloading at Tempelhof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1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8" name="Picture 4" descr="luftbruecke%20copy"/>
          <p:cNvPicPr/>
          <p:nvPr/>
        </p:nvPicPr>
        <p:blipFill>
          <a:blip r:embed="rId3"/>
          <a:stretch/>
        </p:blipFill>
        <p:spPr>
          <a:xfrm>
            <a:off x="0" y="3683160"/>
            <a:ext cx="5105520" cy="317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9" name="Picture 5" descr="Loading milk on a West Berlin-bound plan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352680"/>
            <a:ext cx="2781360" cy="350532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374-4F1A-4BB7-A089-70021CBCEA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N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orth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A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tlantic </a:t>
            </a: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T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eaty </a:t>
            </a:r>
            <a:br>
              <a:rPr sz="4000"/>
            </a:br>
            <a:r>
              <a:rPr b="1" lang="en-US" sz="4000" spc="-1" strike="noStrike" u="sng">
                <a:solidFill>
                  <a:srgbClr val="330066"/>
                </a:solidFill>
                <a:uFillTx/>
                <a:latin typeface="Copperplate Gothic Light"/>
              </a:rPr>
              <a:t>O</a:t>
            </a:r>
            <a:r>
              <a:rPr b="1" lang="en-US" sz="4000" spc="-1" strike="noStrike">
                <a:solidFill>
                  <a:srgbClr val="330066"/>
                </a:solidFill>
                <a:latin typeface="Copperplate Gothic Light"/>
              </a:rPr>
              <a:t>rganiz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O was established by a treaty in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rganization established a system of collective defense whereby its member states agree to mutual defense in response to an attack by any external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ited States, the United Kingdom, Canada, France, Denmark, Iceland, Italy, Norway, Portugal, Belgium, Netherlands, and Luxembourg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reece (1952), West Germany (1955) join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Flag of NA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Flag of NA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78120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6DC3-4081-43A7-A098-E5CE95203A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Warsaw Pac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t Response to 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on May 1, 1955 in 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treaty, which bound its signatories to come to the aid of the others, should any one of them be the victim of foreign ag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bania, Bulgaria, Hungary, East Germany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,  Poland, Rumania, the USSR, and the Czechoslovak Re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communism-5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1000" y="30492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communism-57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049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1794-192C-41BA-8860-843DCBE69B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621-C8B2-47A1-967E-D3BC81AFA3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7" descr="asia-map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"/>
          <p:cNvSpPr/>
          <p:nvPr/>
        </p:nvSpPr>
        <p:spPr>
          <a:xfrm>
            <a:off x="0" y="6156360"/>
            <a:ext cx="5105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Cold War in As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3AB-6398-431B-8DAF-BE3A4A89F4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30066"/>
                </a:solidFill>
                <a:uFillTx/>
                <a:latin typeface="Copperplate Gothic Light"/>
              </a:rPr>
              <a:t>Background: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fter WW II, the US and USSR emerged as rival superp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ach nation was strong enough to greatly influence world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s1936a"/>
          <p:cNvPicPr/>
          <p:nvPr/>
        </p:nvPicPr>
        <p:blipFill>
          <a:blip r:embed="rId1"/>
          <a:stretch/>
        </p:blipFill>
        <p:spPr>
          <a:xfrm>
            <a:off x="4495680" y="3809880"/>
            <a:ext cx="195444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9" name="Picture 7" descr="krushchev"/>
          <p:cNvPicPr/>
          <p:nvPr/>
        </p:nvPicPr>
        <p:blipFill>
          <a:blip r:embed="rId2"/>
          <a:stretch/>
        </p:blipFill>
        <p:spPr>
          <a:xfrm>
            <a:off x="6553080" y="3886200"/>
            <a:ext cx="259092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0" name="Picture 9" descr="harry-truman-picture"/>
          <p:cNvPicPr/>
          <p:nvPr/>
        </p:nvPicPr>
        <p:blipFill>
          <a:blip r:embed="rId3"/>
          <a:stretch/>
        </p:blipFill>
        <p:spPr>
          <a:xfrm>
            <a:off x="0" y="3886200"/>
            <a:ext cx="2097000" cy="2152800"/>
          </a:xfrm>
          <a:prstGeom prst="rect">
            <a:avLst/>
          </a:prstGeom>
          <a:ln w="28440">
            <a:solidFill>
              <a:srgbClr val="330066"/>
            </a:solidFill>
            <a:miter/>
          </a:ln>
        </p:spPr>
      </p:pic>
      <p:pic>
        <p:nvPicPr>
          <p:cNvPr id="351" name="Picture 11" descr="USA-E-Supreme-pF"/>
          <p:cNvPicPr/>
          <p:nvPr/>
        </p:nvPicPr>
        <p:blipFill>
          <a:blip r:embed="rId4"/>
          <a:stretch/>
        </p:blipFill>
        <p:spPr>
          <a:xfrm>
            <a:off x="2179800" y="3809880"/>
            <a:ext cx="213660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2" name="Picture 13" descr="superpowercoldwarbutt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4F48-FB45-498C-9166-DACDC1D39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0066"/>
                </a:solidFill>
                <a:latin typeface="Copperplate Gothic Light"/>
              </a:rPr>
              <a:t>Struggle for China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o Zedong wanted China to become a communist state after WW I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 Kai Shek fought to stop the communists but was un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2" descr="Image:Flag of the Chinese Communist Part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Image:Naval Jack of the Republic of Chin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Mao Zedo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233440" cy="2971800"/>
          </a:xfrm>
          <a:prstGeom prst="rect">
            <a:avLst/>
          </a:prstGeom>
          <a:ln w="57240">
            <a:solidFill>
              <a:srgbClr val="330066"/>
            </a:solidFill>
            <a:miter/>
          </a:ln>
        </p:spPr>
      </p:pic>
      <p:pic>
        <p:nvPicPr>
          <p:cNvPr id="427" name="Picture 19" descr="Chiang Kai-she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581280"/>
            <a:ext cx="21574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EC1-E571-4FEF-86FD-8CD44B07A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66"/>
                </a:solidFill>
                <a:latin typeface="Copperplate Gothic Light"/>
              </a:rPr>
              <a:t>T</a:t>
            </a: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aiwan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iang Kai-shek, retreated from Mainland China and moved his government from Nanjing to Taipei, Taiwan's largest c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aiwan made a claim they were separate from Chi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ill a problem area tod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visiting-Taiw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visiting-Taiwan-flag"/>
          <p:cNvPicPr/>
          <p:nvPr/>
        </p:nvPicPr>
        <p:blipFill>
          <a:blip r:embed="rId3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taiwan"/>
          <p:cNvPicPr/>
          <p:nvPr/>
        </p:nvPicPr>
        <p:blipFill>
          <a:blip r:embed="rId4"/>
          <a:stretch/>
        </p:blipFill>
        <p:spPr>
          <a:xfrm>
            <a:off x="4800600" y="1600200"/>
            <a:ext cx="383364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s to Maintain American Military 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y levels remained hi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8 revived Selective Servic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ic Energy Com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Security Act 194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C-68 Report (195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8D1-57F2-4C0A-B659-F86A55E22A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Korean War (1950-195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Visions of stable,unififed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side left –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7,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agreed to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SR boycotting Security council so no veto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4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ouglas McArth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mobilization for war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 thwarted 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s of Communism reinfor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gave permission to MacArthur to push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entered war and UN offensive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wanted to avoi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-MacArthur Controver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E56-13C6-4CF1-9CD1-DD34CBCB54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898-189C-4B57-8140-B3499C478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old War in America </a:t>
            </a:r>
            <a:r>
              <a:rPr b="0" lang="en-US" sz="3700" spc="-1" strike="noStrike">
                <a:solidFill>
                  <a:srgbClr val="ff0000"/>
                </a:solidFill>
                <a:latin typeface="Copperplate Gothic Light"/>
              </a:rPr>
              <a:t>(1945-1960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re reason to be concerned?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950’s Red S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viet domination of 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hina turned Communist – 1 billion peop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0,000 Americans members of Communist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2" descr="410Q032Q0HL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982-3A5C-4F34-8780-68032AE37E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Loyalty Review Board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up by President Truman in March 194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po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stigate Federal government employees and dismiss those disloyal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12 dismi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50 – McCarran Internal Security Act pa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hiss"/>
          <p:cNvPicPr/>
          <p:nvPr/>
        </p:nvPicPr>
        <p:blipFill>
          <a:blip r:embed="rId1"/>
          <a:stretch/>
        </p:blipFill>
        <p:spPr>
          <a:xfrm>
            <a:off x="4924440" y="1719360"/>
            <a:ext cx="34876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A62C-E89E-48E3-B822-D70B088C51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66"/>
                </a:solidFill>
                <a:latin typeface="Copperplate Gothic Light"/>
              </a:rPr>
              <a:t>House on Un-American Activities Committee (HUAC)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4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e Communist influence in the movi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lywood Ten – Black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r Hiss Perjury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" descr="h5A"/>
          <p:cNvPicPr/>
          <p:nvPr/>
        </p:nvPicPr>
        <p:blipFill>
          <a:blip r:embed="rId1"/>
          <a:stretch/>
        </p:blipFill>
        <p:spPr>
          <a:xfrm>
            <a:off x="5257800" y="1676520"/>
            <a:ext cx="3478320" cy="441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70F2-CDC3-4B03-AE02-E79E457A7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0066"/>
                </a:solidFill>
                <a:latin typeface="Copperplate Gothic Light"/>
              </a:rPr>
              <a:t>The Rosenberg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erican Communists who were found guilty of conspiracy to commit espionage in relation to passing information on the American nuclear bomb to the Soviet Un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ouple were executed at sundown in the electric chair at Sing Sing Correctional Facility in Ossining, New York, on June 19, 1953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rosenbergs"/>
          <p:cNvPicPr/>
          <p:nvPr/>
        </p:nvPicPr>
        <p:blipFill>
          <a:blip r:embed="rId1"/>
          <a:stretch/>
        </p:blipFill>
        <p:spPr>
          <a:xfrm>
            <a:off x="5715000" y="914400"/>
            <a:ext cx="31449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9" name="Picture 10" descr="rosen jail"/>
          <p:cNvPicPr/>
          <p:nvPr/>
        </p:nvPicPr>
        <p:blipFill>
          <a:blip r:embed="rId2"/>
          <a:stretch/>
        </p:blipFill>
        <p:spPr>
          <a:xfrm>
            <a:off x="5029200" y="3809880"/>
            <a:ext cx="3048120" cy="27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C53-AE94-41FC-A994-6451CC4BDF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McCarthyism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or Joe McCarthy became the most famous anti-Communist activ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issue to help win re-election in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ne unsupported accusation afte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uld bully wit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cCarthyism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ctics used to advance your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McCarthy"/>
          <p:cNvPicPr/>
          <p:nvPr/>
        </p:nvPicPr>
        <p:blipFill>
          <a:blip r:embed="rId1"/>
          <a:stretch/>
        </p:blipFill>
        <p:spPr>
          <a:xfrm>
            <a:off x="4756320" y="2021040"/>
            <a:ext cx="382248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B15-437B-4F34-BF14-65B2F628B6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pperplate Gothic Light"/>
              </a:rPr>
              <a:t>McCarthy’s Downfa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15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first, no one, not even President Eisenhower challenged h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54 McCarthy made accusations against the US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to televised Senate investigation; and American people did not like McCarthy’s tactics. 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His popularity dropped greatl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Welch-McCarthy"/>
          <p:cNvPicPr/>
          <p:nvPr/>
        </p:nvPicPr>
        <p:blipFill>
          <a:blip r:embed="rId1"/>
          <a:stretch/>
        </p:blipFill>
        <p:spPr>
          <a:xfrm>
            <a:off x="685800" y="3833640"/>
            <a:ext cx="7467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 Conferences – Effects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antic  Charter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ablanca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heran Conference (194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lta Conference (Feb.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dam Conference (April 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49C-84E5-4F03-A93C-C7CB1D778B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7EC-D048-478D-94B5-BD53714D57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Change in Lead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ly 1950s saw a change in leaders in both the US and US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Dwight Eisenhower wins the election of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P – Richard Ni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cker’s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SS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Nikita Khruschev takes over when Stalin dies in 19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dwight-eisenhower-picture"/>
          <p:cNvPicPr/>
          <p:nvPr/>
        </p:nvPicPr>
        <p:blipFill>
          <a:blip r:embed="rId1"/>
          <a:stretch/>
        </p:blipFill>
        <p:spPr>
          <a:xfrm>
            <a:off x="4876920" y="1676520"/>
            <a:ext cx="226224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2" name="Picture 9" descr="Nikita%20Krushchev"/>
          <p:cNvPicPr/>
          <p:nvPr/>
        </p:nvPicPr>
        <p:blipFill>
          <a:blip r:embed="rId2"/>
          <a:stretch/>
        </p:blipFill>
        <p:spPr>
          <a:xfrm>
            <a:off x="6477120" y="3505320"/>
            <a:ext cx="2419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D98E-9CFE-4230-AC65-14A40F2265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Hydrogen Bomb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exploded the 1st H-bomb on November 1, 1952 in South Pacif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t bomb completely destroyed one island and left a crater 175 feet dee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ssians exploded on in August of 195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7" descr="atoll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E9D8-9AF4-4A1D-A3C5-19347A82D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8" name="Picture 6" descr="H-bo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0F62-3DB3-4D18-98E0-425C3B0F02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Brinkmanship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ive Retal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as willingness to push nation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brink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uclear war to keep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advocated by John Foster Dulles; Secretary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whos-dulles"/>
          <p:cNvPicPr/>
          <p:nvPr/>
        </p:nvPicPr>
        <p:blipFill>
          <a:blip r:embed="rId1"/>
          <a:stretch/>
        </p:blipFill>
        <p:spPr>
          <a:xfrm>
            <a:off x="5181480" y="1676520"/>
            <a:ext cx="356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1D7-D8A2-4270-AE2E-496C7834BC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Space Ra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8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October 4, 1957 the Soviet Union successfully launched Sputnik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's first artificial satellite was about the size of a beach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d the earth in 98 min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200px-Sputnik_asm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5622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8"/>
          <p:cNvSpPr/>
          <p:nvPr/>
        </p:nvSpPr>
        <p:spPr>
          <a:xfrm>
            <a:off x="36576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ace to control space was 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7AF-E270-4B21-AFE8-8E80E73CAD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U-2 Incident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96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U-2 was designed to be high altitude reconnaissanc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IA used these to spy on USSR and one was shot down on May 1, 196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0" descr="300px-Usaf"/>
          <p:cNvPicPr/>
          <p:nvPr/>
        </p:nvPicPr>
        <p:blipFill>
          <a:blip r:embed="rId1"/>
          <a:stretch/>
        </p:blipFill>
        <p:spPr>
          <a:xfrm>
            <a:off x="1981080" y="3429000"/>
            <a:ext cx="5181840" cy="31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769-7314-4ADF-B198-7488F919E7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0066"/>
                </a:solidFill>
                <a:latin typeface="Copperplate Gothic Light"/>
              </a:rPr>
              <a:t>Francis Gary Power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by CIA to fly spy mi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t down  in U2 over USSR and convicted of espio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changed for a KGB colonel the US had capt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Francis Gary Powers"/>
          <p:cNvPicPr/>
          <p:nvPr/>
        </p:nvPicPr>
        <p:blipFill>
          <a:blip r:embed="rId1"/>
          <a:stretch/>
        </p:blipFill>
        <p:spPr>
          <a:xfrm>
            <a:off x="5029200" y="1752480"/>
            <a:ext cx="382896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9FD-A395-4D2C-8588-CE03152299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0066"/>
                </a:solidFill>
                <a:latin typeface="Copperplate Gothic Light"/>
              </a:rPr>
              <a:t>Conclusion…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Crisis in the Middle East in th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z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into the 1960’s, the Cold War was really starting to heat up with no end in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d War will continue in the 1960s with the world moving closer to an open conflict between the US and US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9" descr="Fidel%20Castro1"/>
          <p:cNvPicPr/>
          <p:nvPr/>
        </p:nvPicPr>
        <p:blipFill>
          <a:blip r:embed="rId1"/>
          <a:stretch/>
        </p:blipFill>
        <p:spPr>
          <a:xfrm>
            <a:off x="5410080" y="1676520"/>
            <a:ext cx="3124440" cy="237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jfk"/>
          <p:cNvPicPr/>
          <p:nvPr/>
        </p:nvPicPr>
        <p:blipFill>
          <a:blip r:embed="rId2"/>
          <a:stretch/>
        </p:blipFill>
        <p:spPr>
          <a:xfrm>
            <a:off x="5105520" y="4114800"/>
            <a:ext cx="29718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5E5-43C0-4284-842D-F543FC5FF7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Potsdam Conference</a:t>
            </a:r>
            <a:br>
              <a:rPr sz="4500"/>
            </a:br>
            <a:r>
              <a:rPr b="1" i="1" lang="en-US" sz="4500" spc="-1" strike="noStrike">
                <a:solidFill>
                  <a:srgbClr val="330066"/>
                </a:solidFill>
                <a:latin typeface="Copperplate Gothic Light"/>
              </a:rPr>
              <a:t>July 1945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3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inal wartime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Big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ngland = Att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A = Tru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SR = Sta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talin promised to allow free elections in Eastern Europe – yet never happened (set up satellite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Potsdam 1"/>
          <p:cNvPicPr/>
          <p:nvPr/>
        </p:nvPicPr>
        <p:blipFill>
          <a:blip r:embed="rId1"/>
          <a:stretch/>
        </p:blipFill>
        <p:spPr>
          <a:xfrm>
            <a:off x="4419720" y="1828800"/>
            <a:ext cx="4572000" cy="37368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24DD-EE45-48AF-AFE8-073E91D1BC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ontainment Policy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668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e Kennan, career Foreign Serv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ed the policy of “containmen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 would not get rid of communism, but would not allow it to sp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 would “contain” communism where is already exis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man Doct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" descr="Kennan"/>
          <p:cNvPicPr/>
          <p:nvPr/>
        </p:nvPicPr>
        <p:blipFill>
          <a:blip r:embed="rId1"/>
          <a:stretch/>
        </p:blipFill>
        <p:spPr>
          <a:xfrm>
            <a:off x="5486400" y="1752480"/>
            <a:ext cx="327024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529E-0E4C-445A-A1DC-98CAF12F3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The Iron Curtai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ston Churchill coined this te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mous speech on March 5, 1946 at Westminster College, in Fulton, Missou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ICK for text and video of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300px-Winston_Churchill"/>
          <p:cNvPicPr/>
          <p:nvPr/>
        </p:nvPicPr>
        <p:blipFill>
          <a:blip r:embed="rId2"/>
          <a:stretch/>
        </p:blipFill>
        <p:spPr>
          <a:xfrm>
            <a:off x="5257800" y="1828800"/>
            <a:ext cx="3525840" cy="426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A6A-826C-4F21-8E6B-3341D43276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F4AC-EEEC-4D71-BDEA-D996DE1898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Copperplate Gothic Light"/>
              </a:rPr>
              <a:t>Churchill’s Warning…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urchill felt that behind the Iron Curtain, the USSR was planning to attack and conquer Western Eur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ILW1059"/>
          <p:cNvPicPr/>
          <p:nvPr/>
        </p:nvPicPr>
        <p:blipFill>
          <a:blip r:embed="rId1"/>
          <a:stretch/>
        </p:blipFill>
        <p:spPr>
          <a:xfrm>
            <a:off x="4724280" y="1752480"/>
            <a:ext cx="389736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73" name="Picture 14" descr="warning_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724280"/>
            <a:ext cx="2743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418-8A4B-4673-8E4C-AE7F793A65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Copperplate Gothic Light"/>
              </a:rPr>
              <a:t>Division of German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7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llies decided to divide Germany into 4 zones after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so, the capital of Berlin was divided into 4 se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E next  2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germanyzone"/>
          <p:cNvPicPr/>
          <p:nvPr/>
        </p:nvPicPr>
        <p:blipFill>
          <a:blip r:embed="rId1"/>
          <a:stretch/>
        </p:blipFill>
        <p:spPr>
          <a:xfrm>
            <a:off x="5029200" y="1752480"/>
            <a:ext cx="3573360" cy="434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49:02Z</dcterms:created>
  <dc:creator>Daniel J. Greenberg</dc:creator>
  <dc:description/>
  <dc:language>en-US</dc:language>
  <cp:lastModifiedBy>DMcNamar</cp:lastModifiedBy>
  <dcterms:modified xsi:type="dcterms:W3CDTF">2013-04-01T19:49:17Z</dcterms:modified>
  <cp:revision>88</cp:revision>
  <dc:subject/>
  <dc:title>Slide 1</dc:title>
</cp:coreProperties>
</file>